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29.gif" ContentType="image/gif"/>
  <Override PartName="/ppt/media/image9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3.jpeg" ContentType="image/jpe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054-758F-494B-9953-19CEC0D8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D48-F0E6-4EBA-A291-BE0A2C46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08E-9A15-4240-BC46-21759E7D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292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316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304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292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316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6E7-0B50-452C-9A56-35CFFA42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D59D-2201-4631-A448-4700047D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40A5-B54B-4AE8-86F7-629B91D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270F-D74A-4117-AD1B-CA6FDEF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9F2D-A9DF-440C-A6D5-B12D6A1A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634-3429-43BA-9CF8-A2BCDA9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3040" y="779400"/>
            <a:ext cx="75420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B5C-216A-4100-9ADC-A014013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A91-C40B-43F8-A101-9C7FC46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3A9-BAD8-499F-98F8-6D9A2B4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A02-E717-430F-8FE3-B6930F65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4A6C-6920-4F71-9721-42DA7BC9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E71F-E59F-400A-9F9B-3B8F3F4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4BC6-BEAB-4E5B-B915-4E05686B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9292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4316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304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9292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4316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C739-E21B-426E-9643-36DBEC8D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8D63-C97B-405E-BABF-07DD4F94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AB53-976D-49FB-90A8-09A84A8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92903-0FEA-4F6C-912B-3DA27A53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4C28-C587-4898-8E80-BC11000F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E41A-6577-4855-BC6D-035A1B24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79B-4069-4DA9-843A-EA7EDD9C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43040" y="779400"/>
            <a:ext cx="75420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3ED8-9223-49E6-9757-E3F3F8D4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83FB-325A-4003-A23A-0B5FE344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430C-2695-4831-B42B-6C4FAAB8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4EC0-03CC-46E7-B592-A05B69F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A314-5EBD-4234-B93D-F42A6E8F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4F92C-BC50-4332-8080-F383B1C9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292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4316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74304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292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4316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7277-A76D-40E8-B96D-ADCF6784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5898-7A78-4348-97CB-5FEF9BED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DB70C-C233-4158-B4CF-14F739F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8408-D456-465D-80C2-B9FC167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3A4-4C12-48A7-AEA0-E7395D95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618E-DEAC-4081-85E3-EFB15412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481F4-F6D9-4F27-9DBA-89F5E9DB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43040" y="779400"/>
            <a:ext cx="75420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D2D28-875A-418E-81B5-8227293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1A20-D9B3-4215-96DD-FEAB421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1CBE3-EABC-4FD3-B20A-41E2284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CABBD-5171-441B-9286-537E99B1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4A34-8936-45A0-ADE3-ADB1B38B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24BBF-7973-4749-BB3A-97723CDB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9292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43160" y="146808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4304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9292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43160" y="3853800"/>
            <a:ext cx="24282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871E-D254-4189-8DBE-317D3538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722-95D8-49C3-ACD3-B5F53331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3040" y="779400"/>
            <a:ext cx="75420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A2F-2DE8-4EFA-87F1-7E7535C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4C5-96B5-4994-BFCB-5F870F2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7640" y="385380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6AC-EC55-4995-94F7-CCDC2B9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30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7640" y="1468080"/>
            <a:ext cx="36802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3040" y="3853800"/>
            <a:ext cx="75420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4E1-3934-4691-A9CB-7CB5DAFE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ipad_zoomerlay_land_20100225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7AD4-6430-463A-9505-C4F9FB0A9118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2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营销管理中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16392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B45-F06F-4E58-B7D7-F6127F309254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49160" y="774720"/>
            <a:ext cx="7559640" cy="5272200"/>
            <a:chOff x="749160" y="774720"/>
            <a:chExt cx="7559640" cy="5272200"/>
          </a:xfrm>
        </p:grpSpPr>
        <p:pic>
          <p:nvPicPr>
            <p:cNvPr id="5" name="矩形 9" descr=""/>
            <p:cNvPicPr/>
            <p:nvPr/>
          </p:nvPicPr>
          <p:blipFill>
            <a:blip r:embed="rId3"/>
            <a:stretch/>
          </p:blipFill>
          <p:spPr>
            <a:xfrm>
              <a:off x="749160" y="774720"/>
              <a:ext cx="755964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55640" y="779400"/>
              <a:ext cx="75420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椭圆 8">
            <a:hlinkClick r:id="" action="ppaction://hlinkshowjump?jump=firstslide"/>
          </p:cNvPr>
          <p:cNvSpPr/>
          <p:nvPr/>
        </p:nvSpPr>
        <p:spPr>
          <a:xfrm>
            <a:off x="8461440" y="3200400"/>
            <a:ext cx="41904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Administrator\Desktop\新建文件夹\ipad_zoomerlay_land_20100225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749160" y="774720"/>
            <a:ext cx="7559640" cy="5272200"/>
            <a:chOff x="749160" y="774720"/>
            <a:chExt cx="7559640" cy="5272200"/>
          </a:xfrm>
        </p:grpSpPr>
        <p:pic>
          <p:nvPicPr>
            <p:cNvPr id="48" name="矩形 9" descr=""/>
            <p:cNvPicPr/>
            <p:nvPr/>
          </p:nvPicPr>
          <p:blipFill>
            <a:blip r:embed="rId3"/>
            <a:stretch/>
          </p:blipFill>
          <p:spPr>
            <a:xfrm>
              <a:off x="749160" y="774720"/>
              <a:ext cx="755964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55640" y="779400"/>
              <a:ext cx="75420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椭圆 8">
            <a:hlinkClick r:id="" action="ppaction://hlinkshowjump?jump=firstslide"/>
          </p:cNvPr>
          <p:cNvSpPr/>
          <p:nvPr/>
        </p:nvSpPr>
        <p:spPr>
          <a:xfrm>
            <a:off x="8461440" y="3200400"/>
            <a:ext cx="41904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5528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B099-87A3-4964-9B7D-93954838649E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2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16392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3065-C0A8-445C-ACCC-FE7D75113209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Administrator\Desktop\新建文件夹\ipad_zoomerlay_land_20100225.png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749160" y="774720"/>
            <a:ext cx="7559640" cy="5272200"/>
            <a:chOff x="749160" y="774720"/>
            <a:chExt cx="7559640" cy="5272200"/>
          </a:xfrm>
        </p:grpSpPr>
        <p:pic>
          <p:nvPicPr>
            <p:cNvPr id="94" name="矩形 9" descr=""/>
            <p:cNvPicPr/>
            <p:nvPr/>
          </p:nvPicPr>
          <p:blipFill>
            <a:blip r:embed="rId3"/>
            <a:stretch/>
          </p:blipFill>
          <p:spPr>
            <a:xfrm>
              <a:off x="749160" y="774720"/>
              <a:ext cx="755964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5640" y="779400"/>
              <a:ext cx="75420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椭圆 8">
            <a:hlinkClick r:id="" action="ppaction://hlinkshowjump?jump=firstslide"/>
          </p:cNvPr>
          <p:cNvSpPr/>
          <p:nvPr/>
        </p:nvSpPr>
        <p:spPr>
          <a:xfrm>
            <a:off x="8461440" y="3200400"/>
            <a:ext cx="41904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3040" y="779400"/>
            <a:ext cx="754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43040" y="1468080"/>
            <a:ext cx="75420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5528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9885-DF7A-408A-9882-17EB9A8BB926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2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6392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C16-173F-4CD2-8DD0-4404189F0380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65F7-7D3E-494E-A97A-AAADD70F9A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A1C0-F16C-47C5-BDE6-932D43BE25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10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1.png"/><Relationship Id="rId10" Type="http://schemas.openxmlformats.org/officeDocument/2006/relationships/image" Target="../media/image25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6560" y="1572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Lesson14 My bo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38160" y="2674800"/>
            <a:ext cx="64008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学生：三（</a:t>
            </a:r>
            <a:r>
              <a:rPr b="1" lang="en-US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授课人：吴会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欢迎指导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light 7.png"/>
          <p:cNvPicPr/>
          <p:nvPr/>
        </p:nvPicPr>
        <p:blipFill>
          <a:blip r:embed="rId3"/>
          <a:stretch/>
        </p:blipFill>
        <p:spPr>
          <a:xfrm>
            <a:off x="-141120" y="0"/>
            <a:ext cx="4679640" cy="5143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" descr="light 7.png"/>
          <p:cNvPicPr/>
          <p:nvPr/>
        </p:nvPicPr>
        <p:blipFill>
          <a:blip r:embed="rId4"/>
          <a:stretch/>
        </p:blipFill>
        <p:spPr>
          <a:xfrm>
            <a:off x="1817640" y="0"/>
            <a:ext cx="4681440" cy="51436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3" descr="light 7.png"/>
          <p:cNvPicPr/>
          <p:nvPr/>
        </p:nvPicPr>
        <p:blipFill>
          <a:blip r:embed="rId5"/>
          <a:stretch/>
        </p:blipFill>
        <p:spPr>
          <a:xfrm>
            <a:off x="3557520" y="0"/>
            <a:ext cx="4681440" cy="51436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3" descr="light 9.png"/>
          <p:cNvPicPr/>
          <p:nvPr/>
        </p:nvPicPr>
        <p:blipFill>
          <a:blip r:embed="rId6"/>
          <a:stretch/>
        </p:blipFill>
        <p:spPr>
          <a:xfrm>
            <a:off x="6561000" y="103320"/>
            <a:ext cx="1033560" cy="5143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3990960" y="52466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0040" y="1095120"/>
            <a:ext cx="7542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04040"/>
                </a:solidFill>
                <a:latin typeface="Verdana"/>
              </a:rPr>
              <a:t>That’s all! Thanks!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414440" y="1790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100400" y="2209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879120"/>
            <a:ext cx="7542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Verdana"/>
              </a:rPr>
              <a:t>Warming up: </a:t>
            </a:r>
            <a:br>
              <a:rPr sz="2800"/>
            </a:br>
            <a:r>
              <a:rPr b="1" lang="en-US" sz="2800" spc="-1" strike="noStrike">
                <a:solidFill>
                  <a:srgbClr val="404040"/>
                </a:solidFill>
                <a:latin typeface="Verdana"/>
              </a:rPr>
              <a:t>           Head Shoulders Fingers To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616428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6637-B5C5-4880-8250-EA2DAE2D7BA0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95520" y="1938240"/>
            <a:ext cx="5830920" cy="3981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560" y="1938240"/>
            <a:ext cx="1406520" cy="2452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50240" y="1938240"/>
            <a:ext cx="1500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4"/>
          <p:cNvSpPr/>
          <p:nvPr/>
        </p:nvSpPr>
        <p:spPr>
          <a:xfrm>
            <a:off x="616428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94D1-3155-468C-A518-F2707D1D57F4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195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197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90680" y="465120"/>
            <a:ext cx="7116120" cy="4797000"/>
            <a:chOff x="490680" y="465120"/>
            <a:chExt cx="7116120" cy="479700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132240" y="3571920"/>
              <a:ext cx="1017360" cy="13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516200" y="1738440"/>
              <a:ext cx="111240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3"/>
            <a:stretch/>
          </p:blipFill>
          <p:spPr>
            <a:xfrm>
              <a:off x="993600" y="3848040"/>
              <a:ext cx="110448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"/>
            <a:stretch/>
          </p:blipFill>
          <p:spPr>
            <a:xfrm>
              <a:off x="4447800" y="3944880"/>
              <a:ext cx="13334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5"/>
            <a:stretch/>
          </p:blipFill>
          <p:spPr>
            <a:xfrm>
              <a:off x="2952360" y="3835440"/>
              <a:ext cx="70956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6"/>
            <a:stretch/>
          </p:blipFill>
          <p:spPr>
            <a:xfrm>
              <a:off x="2460240" y="1803240"/>
              <a:ext cx="1693800" cy="9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7"/>
            <a:stretch/>
          </p:blipFill>
          <p:spPr>
            <a:xfrm>
              <a:off x="6132240" y="1870200"/>
              <a:ext cx="147456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993600" y="1758960"/>
              <a:ext cx="12726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3600" y="2760480"/>
              <a:ext cx="645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ead     shoulder   finger    to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93600" y="4619520"/>
              <a:ext cx="623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ye          ear        mouth    nose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3160" y="928800"/>
              <a:ext cx="1958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view: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90680" y="465120"/>
              <a:ext cx="1441080" cy="19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2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4"/>
          <p:cNvSpPr/>
          <p:nvPr/>
        </p:nvSpPr>
        <p:spPr>
          <a:xfrm>
            <a:off x="616428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133B-A111-4011-9EC0-C103467F4B22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216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218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0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090880" y="0"/>
            <a:ext cx="4991040" cy="6696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151760" y="4776840"/>
            <a:ext cx="1146240" cy="1388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51760" y="4776840"/>
            <a:ext cx="1050840" cy="1398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10800000">
            <a:off x="4297320" y="1315800"/>
            <a:ext cx="835200" cy="360360"/>
          </a:xfrm>
          <a:prstGeom prst="rightArrow">
            <a:avLst>
              <a:gd name="adj1" fmla="val 50454"/>
              <a:gd name="adj2" fmla="val 84166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5132520" y="1146240"/>
            <a:ext cx="21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9526800">
            <a:off x="5131800" y="2825280"/>
            <a:ext cx="834840" cy="360360"/>
          </a:xfrm>
          <a:prstGeom prst="rightArrow">
            <a:avLst>
              <a:gd name="adj1" fmla="val 50454"/>
              <a:gd name="adj2" fmla="val 84130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919840" y="2475000"/>
            <a:ext cx="237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r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胳膊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5132160" y="4416120"/>
            <a:ext cx="834840" cy="360360"/>
          </a:xfrm>
          <a:prstGeom prst="rightArrow">
            <a:avLst>
              <a:gd name="adj1" fmla="val 50454"/>
              <a:gd name="adj2" fmla="val 84130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975280" y="4145040"/>
            <a:ext cx="16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eg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895320" y="1146240"/>
            <a:ext cx="19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a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 rot="20827200">
            <a:off x="2712600" y="807840"/>
            <a:ext cx="561960" cy="360360"/>
          </a:xfrm>
          <a:prstGeom prst="rightArrow">
            <a:avLst>
              <a:gd name="adj1" fmla="val 50454"/>
              <a:gd name="adj2" fmla="val 56631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 rot="1750200">
            <a:off x="2090880" y="5116680"/>
            <a:ext cx="834840" cy="360360"/>
          </a:xfrm>
          <a:prstGeom prst="rightArrow">
            <a:avLst>
              <a:gd name="adj1" fmla="val 50454"/>
              <a:gd name="adj2" fmla="val 84130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414504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o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081920" y="1371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24640" y="3024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7386480" y="441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1004760" y="16956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1157400" y="48117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9" name="未知"/>
          <p:cNvSpPr/>
          <p:nvPr/>
        </p:nvSpPr>
        <p:spPr>
          <a:xfrm>
            <a:off x="2820960" y="746280"/>
            <a:ext cx="3360600" cy="5276520"/>
          </a:xfrm>
          <a:custGeom>
            <a:avLst/>
            <a:gdLst/>
            <a:ahLst/>
            <a:rect l="l" t="t" r="r" b="b"/>
            <a:pathLst>
              <a:path w="2117" h="3324">
                <a:moveTo>
                  <a:pt x="11" y="3063"/>
                </a:moveTo>
                <a:cubicBezTo>
                  <a:pt x="22" y="3013"/>
                  <a:pt x="83" y="2915"/>
                  <a:pt x="97" y="2848"/>
                </a:cubicBezTo>
                <a:cubicBezTo>
                  <a:pt x="111" y="2781"/>
                  <a:pt x="101" y="2716"/>
                  <a:pt x="97" y="2659"/>
                </a:cubicBezTo>
                <a:cubicBezTo>
                  <a:pt x="93" y="2602"/>
                  <a:pt x="67" y="2550"/>
                  <a:pt x="71" y="2504"/>
                </a:cubicBezTo>
                <a:cubicBezTo>
                  <a:pt x="75" y="2458"/>
                  <a:pt x="83" y="2443"/>
                  <a:pt x="122" y="2384"/>
                </a:cubicBezTo>
                <a:cubicBezTo>
                  <a:pt x="161" y="2325"/>
                  <a:pt x="267" y="2213"/>
                  <a:pt x="303" y="2151"/>
                </a:cubicBezTo>
                <a:cubicBezTo>
                  <a:pt x="339" y="2089"/>
                  <a:pt x="327" y="2045"/>
                  <a:pt x="337" y="2014"/>
                </a:cubicBezTo>
                <a:cubicBezTo>
                  <a:pt x="347" y="1983"/>
                  <a:pt x="357" y="2022"/>
                  <a:pt x="363" y="1962"/>
                </a:cubicBezTo>
                <a:cubicBezTo>
                  <a:pt x="369" y="1902"/>
                  <a:pt x="371" y="1746"/>
                  <a:pt x="372" y="1653"/>
                </a:cubicBezTo>
                <a:cubicBezTo>
                  <a:pt x="373" y="1560"/>
                  <a:pt x="371" y="1483"/>
                  <a:pt x="372" y="1404"/>
                </a:cubicBezTo>
                <a:cubicBezTo>
                  <a:pt x="373" y="1325"/>
                  <a:pt x="400" y="1249"/>
                  <a:pt x="380" y="1180"/>
                </a:cubicBezTo>
                <a:cubicBezTo>
                  <a:pt x="360" y="1111"/>
                  <a:pt x="283" y="1032"/>
                  <a:pt x="251" y="991"/>
                </a:cubicBezTo>
                <a:cubicBezTo>
                  <a:pt x="219" y="950"/>
                  <a:pt x="194" y="952"/>
                  <a:pt x="191" y="931"/>
                </a:cubicBezTo>
                <a:cubicBezTo>
                  <a:pt x="188" y="910"/>
                  <a:pt x="250" y="901"/>
                  <a:pt x="234" y="862"/>
                </a:cubicBezTo>
                <a:cubicBezTo>
                  <a:pt x="218" y="823"/>
                  <a:pt x="116" y="759"/>
                  <a:pt x="97" y="699"/>
                </a:cubicBezTo>
                <a:cubicBezTo>
                  <a:pt x="78" y="639"/>
                  <a:pt x="101" y="578"/>
                  <a:pt x="122" y="501"/>
                </a:cubicBezTo>
                <a:cubicBezTo>
                  <a:pt x="143" y="424"/>
                  <a:pt x="187" y="311"/>
                  <a:pt x="226" y="234"/>
                </a:cubicBezTo>
                <a:cubicBezTo>
                  <a:pt x="265" y="157"/>
                  <a:pt x="315" y="74"/>
                  <a:pt x="354" y="37"/>
                </a:cubicBezTo>
                <a:cubicBezTo>
                  <a:pt x="393" y="0"/>
                  <a:pt x="431" y="7"/>
                  <a:pt x="458" y="11"/>
                </a:cubicBezTo>
                <a:cubicBezTo>
                  <a:pt x="485" y="15"/>
                  <a:pt x="511" y="45"/>
                  <a:pt x="518" y="62"/>
                </a:cubicBezTo>
                <a:cubicBezTo>
                  <a:pt x="525" y="79"/>
                  <a:pt x="512" y="75"/>
                  <a:pt x="501" y="114"/>
                </a:cubicBezTo>
                <a:cubicBezTo>
                  <a:pt x="490" y="153"/>
                  <a:pt x="468" y="265"/>
                  <a:pt x="449" y="295"/>
                </a:cubicBezTo>
                <a:cubicBezTo>
                  <a:pt x="430" y="325"/>
                  <a:pt x="410" y="278"/>
                  <a:pt x="389" y="295"/>
                </a:cubicBezTo>
                <a:cubicBezTo>
                  <a:pt x="368" y="312"/>
                  <a:pt x="333" y="349"/>
                  <a:pt x="320" y="398"/>
                </a:cubicBezTo>
                <a:cubicBezTo>
                  <a:pt x="307" y="447"/>
                  <a:pt x="298" y="531"/>
                  <a:pt x="311" y="587"/>
                </a:cubicBezTo>
                <a:cubicBezTo>
                  <a:pt x="324" y="643"/>
                  <a:pt x="370" y="702"/>
                  <a:pt x="397" y="733"/>
                </a:cubicBezTo>
                <a:cubicBezTo>
                  <a:pt x="424" y="764"/>
                  <a:pt x="456" y="787"/>
                  <a:pt x="475" y="776"/>
                </a:cubicBezTo>
                <a:cubicBezTo>
                  <a:pt x="494" y="765"/>
                  <a:pt x="505" y="705"/>
                  <a:pt x="509" y="664"/>
                </a:cubicBezTo>
                <a:cubicBezTo>
                  <a:pt x="513" y="623"/>
                  <a:pt x="490" y="567"/>
                  <a:pt x="501" y="527"/>
                </a:cubicBezTo>
                <a:cubicBezTo>
                  <a:pt x="512" y="487"/>
                  <a:pt x="551" y="439"/>
                  <a:pt x="578" y="423"/>
                </a:cubicBezTo>
                <a:cubicBezTo>
                  <a:pt x="605" y="407"/>
                  <a:pt x="627" y="426"/>
                  <a:pt x="664" y="432"/>
                </a:cubicBezTo>
                <a:cubicBezTo>
                  <a:pt x="701" y="438"/>
                  <a:pt x="765" y="449"/>
                  <a:pt x="802" y="458"/>
                </a:cubicBezTo>
                <a:cubicBezTo>
                  <a:pt x="839" y="467"/>
                  <a:pt x="857" y="465"/>
                  <a:pt x="887" y="484"/>
                </a:cubicBezTo>
                <a:cubicBezTo>
                  <a:pt x="917" y="503"/>
                  <a:pt x="966" y="538"/>
                  <a:pt x="982" y="570"/>
                </a:cubicBezTo>
                <a:cubicBezTo>
                  <a:pt x="998" y="602"/>
                  <a:pt x="978" y="646"/>
                  <a:pt x="982" y="673"/>
                </a:cubicBezTo>
                <a:cubicBezTo>
                  <a:pt x="986" y="700"/>
                  <a:pt x="1008" y="710"/>
                  <a:pt x="1008" y="733"/>
                </a:cubicBezTo>
                <a:cubicBezTo>
                  <a:pt x="1008" y="756"/>
                  <a:pt x="999" y="789"/>
                  <a:pt x="982" y="810"/>
                </a:cubicBezTo>
                <a:cubicBezTo>
                  <a:pt x="965" y="831"/>
                  <a:pt x="909" y="841"/>
                  <a:pt x="905" y="862"/>
                </a:cubicBezTo>
                <a:cubicBezTo>
                  <a:pt x="901" y="883"/>
                  <a:pt x="942" y="913"/>
                  <a:pt x="956" y="939"/>
                </a:cubicBezTo>
                <a:cubicBezTo>
                  <a:pt x="970" y="965"/>
                  <a:pt x="967" y="988"/>
                  <a:pt x="991" y="1017"/>
                </a:cubicBezTo>
                <a:cubicBezTo>
                  <a:pt x="1015" y="1046"/>
                  <a:pt x="1073" y="1084"/>
                  <a:pt x="1102" y="1111"/>
                </a:cubicBezTo>
                <a:cubicBezTo>
                  <a:pt x="1131" y="1138"/>
                  <a:pt x="1101" y="1113"/>
                  <a:pt x="1163" y="1180"/>
                </a:cubicBezTo>
                <a:cubicBezTo>
                  <a:pt x="1225" y="1247"/>
                  <a:pt x="1356" y="1409"/>
                  <a:pt x="1472" y="1515"/>
                </a:cubicBezTo>
                <a:cubicBezTo>
                  <a:pt x="1588" y="1621"/>
                  <a:pt x="1763" y="1756"/>
                  <a:pt x="1859" y="1816"/>
                </a:cubicBezTo>
                <a:cubicBezTo>
                  <a:pt x="1955" y="1876"/>
                  <a:pt x="2007" y="1855"/>
                  <a:pt x="2048" y="1876"/>
                </a:cubicBezTo>
                <a:cubicBezTo>
                  <a:pt x="2089" y="1897"/>
                  <a:pt x="2117" y="1922"/>
                  <a:pt x="2108" y="1945"/>
                </a:cubicBezTo>
                <a:cubicBezTo>
                  <a:pt x="2099" y="1968"/>
                  <a:pt x="2025" y="2008"/>
                  <a:pt x="1996" y="2014"/>
                </a:cubicBezTo>
                <a:cubicBezTo>
                  <a:pt x="1967" y="2020"/>
                  <a:pt x="1969" y="1991"/>
                  <a:pt x="1936" y="1980"/>
                </a:cubicBezTo>
                <a:cubicBezTo>
                  <a:pt x="1903" y="1969"/>
                  <a:pt x="1843" y="1962"/>
                  <a:pt x="1799" y="1945"/>
                </a:cubicBezTo>
                <a:cubicBezTo>
                  <a:pt x="1755" y="1928"/>
                  <a:pt x="1729" y="1910"/>
                  <a:pt x="1670" y="1876"/>
                </a:cubicBezTo>
                <a:cubicBezTo>
                  <a:pt x="1611" y="1842"/>
                  <a:pt x="1497" y="1768"/>
                  <a:pt x="1446" y="1739"/>
                </a:cubicBezTo>
                <a:cubicBezTo>
                  <a:pt x="1395" y="1710"/>
                  <a:pt x="1414" y="1717"/>
                  <a:pt x="1360" y="1704"/>
                </a:cubicBezTo>
                <a:cubicBezTo>
                  <a:pt x="1306" y="1691"/>
                  <a:pt x="1167" y="1657"/>
                  <a:pt x="1120" y="1661"/>
                </a:cubicBezTo>
                <a:cubicBezTo>
                  <a:pt x="1073" y="1665"/>
                  <a:pt x="1071" y="1694"/>
                  <a:pt x="1077" y="1730"/>
                </a:cubicBezTo>
                <a:cubicBezTo>
                  <a:pt x="1083" y="1766"/>
                  <a:pt x="1108" y="1778"/>
                  <a:pt x="1154" y="1876"/>
                </a:cubicBezTo>
                <a:cubicBezTo>
                  <a:pt x="1200" y="1974"/>
                  <a:pt x="1250" y="2159"/>
                  <a:pt x="1352" y="2315"/>
                </a:cubicBezTo>
                <a:cubicBezTo>
                  <a:pt x="1454" y="2471"/>
                  <a:pt x="1671" y="2698"/>
                  <a:pt x="1764" y="2813"/>
                </a:cubicBezTo>
                <a:cubicBezTo>
                  <a:pt x="1857" y="2928"/>
                  <a:pt x="1872" y="2954"/>
                  <a:pt x="1911" y="3003"/>
                </a:cubicBezTo>
                <a:cubicBezTo>
                  <a:pt x="1950" y="3052"/>
                  <a:pt x="1985" y="3057"/>
                  <a:pt x="1996" y="3106"/>
                </a:cubicBezTo>
                <a:cubicBezTo>
                  <a:pt x="2007" y="3155"/>
                  <a:pt x="1999" y="3266"/>
                  <a:pt x="1979" y="3295"/>
                </a:cubicBezTo>
                <a:cubicBezTo>
                  <a:pt x="1959" y="3324"/>
                  <a:pt x="1909" y="3301"/>
                  <a:pt x="1876" y="3278"/>
                </a:cubicBezTo>
                <a:cubicBezTo>
                  <a:pt x="1843" y="3255"/>
                  <a:pt x="1803" y="3187"/>
                  <a:pt x="1782" y="3157"/>
                </a:cubicBezTo>
                <a:cubicBezTo>
                  <a:pt x="1761" y="3127"/>
                  <a:pt x="1791" y="3126"/>
                  <a:pt x="1747" y="3097"/>
                </a:cubicBezTo>
                <a:cubicBezTo>
                  <a:pt x="1703" y="3068"/>
                  <a:pt x="1589" y="3032"/>
                  <a:pt x="1515" y="2985"/>
                </a:cubicBezTo>
                <a:cubicBezTo>
                  <a:pt x="1441" y="2938"/>
                  <a:pt x="1389" y="2884"/>
                  <a:pt x="1300" y="2813"/>
                </a:cubicBezTo>
                <a:cubicBezTo>
                  <a:pt x="1211" y="2742"/>
                  <a:pt x="1064" y="2628"/>
                  <a:pt x="982" y="2556"/>
                </a:cubicBezTo>
                <a:cubicBezTo>
                  <a:pt x="900" y="2484"/>
                  <a:pt x="849" y="2423"/>
                  <a:pt x="810" y="2384"/>
                </a:cubicBezTo>
                <a:cubicBezTo>
                  <a:pt x="771" y="2345"/>
                  <a:pt x="767" y="2320"/>
                  <a:pt x="750" y="2323"/>
                </a:cubicBezTo>
                <a:cubicBezTo>
                  <a:pt x="733" y="2326"/>
                  <a:pt x="738" y="2372"/>
                  <a:pt x="707" y="2401"/>
                </a:cubicBezTo>
                <a:cubicBezTo>
                  <a:pt x="676" y="2430"/>
                  <a:pt x="598" y="2462"/>
                  <a:pt x="561" y="2495"/>
                </a:cubicBezTo>
                <a:cubicBezTo>
                  <a:pt x="524" y="2528"/>
                  <a:pt x="509" y="2582"/>
                  <a:pt x="483" y="2599"/>
                </a:cubicBezTo>
                <a:cubicBezTo>
                  <a:pt x="457" y="2616"/>
                  <a:pt x="413" y="2580"/>
                  <a:pt x="406" y="2599"/>
                </a:cubicBezTo>
                <a:cubicBezTo>
                  <a:pt x="399" y="2618"/>
                  <a:pt x="439" y="2683"/>
                  <a:pt x="440" y="2710"/>
                </a:cubicBezTo>
                <a:cubicBezTo>
                  <a:pt x="441" y="2737"/>
                  <a:pt x="414" y="2732"/>
                  <a:pt x="415" y="2762"/>
                </a:cubicBezTo>
                <a:cubicBezTo>
                  <a:pt x="416" y="2792"/>
                  <a:pt x="452" y="2858"/>
                  <a:pt x="449" y="2891"/>
                </a:cubicBezTo>
                <a:cubicBezTo>
                  <a:pt x="446" y="2924"/>
                  <a:pt x="428" y="2929"/>
                  <a:pt x="397" y="2960"/>
                </a:cubicBezTo>
                <a:cubicBezTo>
                  <a:pt x="366" y="2991"/>
                  <a:pt x="304" y="3050"/>
                  <a:pt x="260" y="3080"/>
                </a:cubicBezTo>
                <a:cubicBezTo>
                  <a:pt x="216" y="3110"/>
                  <a:pt x="170" y="3128"/>
                  <a:pt x="131" y="3140"/>
                </a:cubicBezTo>
                <a:cubicBezTo>
                  <a:pt x="92" y="3152"/>
                  <a:pt x="48" y="3165"/>
                  <a:pt x="28" y="3149"/>
                </a:cubicBezTo>
                <a:cubicBezTo>
                  <a:pt x="8" y="3133"/>
                  <a:pt x="0" y="3113"/>
                  <a:pt x="11" y="3063"/>
                </a:cubicBezTo>
                <a:close/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 rot="21299400">
            <a:off x="2360520" y="2612520"/>
            <a:ext cx="762120" cy="924120"/>
          </a:xfrm>
          <a:prstGeom prst="rightArrow">
            <a:avLst>
              <a:gd name="adj1" fmla="val 50454"/>
              <a:gd name="adj2" fmla="val 36315"/>
            </a:avLst>
          </a:prstGeom>
          <a:solidFill>
            <a:srgbClr val="ee3f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1312920" y="2651040"/>
            <a:ext cx="10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1036800" y="2416320"/>
            <a:ext cx="1501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1" lang="en-US" sz="4000" spc="-1" strike="noStrike">
                <a:solidFill>
                  <a:srgbClr val="ee3f24"/>
                </a:solidFill>
                <a:latin typeface="Times New Roman"/>
                <a:ea typeface="华文中宋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1" lang="en-US" sz="4000" spc="-1" strike="noStrike">
                <a:solidFill>
                  <a:srgbClr val="ee3f24"/>
                </a:solidFill>
                <a:latin typeface="Times New Roman"/>
                <a:ea typeface="华文中宋"/>
              </a:rPr>
              <a:t>y</a:t>
            </a:r>
            <a:r>
              <a:rPr b="1" lang="zh-CN" sz="4000" spc="-1" strike="noStrike">
                <a:solidFill>
                  <a:srgbClr val="ee3f24"/>
                </a:solidFill>
                <a:latin typeface="Times New Roman"/>
                <a:ea typeface="华文中宋"/>
              </a:rPr>
              <a:t>身体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898560" y="29354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121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2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78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94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124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07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862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99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4"/>
          <p:cNvSpPr/>
          <p:nvPr/>
        </p:nvSpPr>
        <p:spPr>
          <a:xfrm>
            <a:off x="616428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5738-F39D-4F9B-8230-255EF4A762B0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2254320" y="1501920"/>
            <a:ext cx="4586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861840" y="800280"/>
            <a:ext cx="53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it?  It’s a /an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4430880" y="1530360"/>
            <a:ext cx="297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1620000" y="2027160"/>
            <a:ext cx="25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 hea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1437840" y="336852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n arm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458000" y="467208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 leg</a:t>
            </a:r>
            <a:r>
              <a:rPr b="1" i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637160" y="2224080"/>
            <a:ext cx="3054240" cy="4070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211560" y="2378160"/>
            <a:ext cx="2709720" cy="36097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548400" y="2266920"/>
            <a:ext cx="2595600" cy="345744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735120" y="831960"/>
            <a:ext cx="3705120" cy="1546200"/>
            <a:chOff x="735120" y="831960"/>
            <a:chExt cx="3705120" cy="1546200"/>
          </a:xfrm>
        </p:grpSpPr>
        <p:sp>
          <p:nvSpPr>
            <p:cNvPr id="256" name=""/>
            <p:cNvSpPr/>
            <p:nvPr/>
          </p:nvSpPr>
          <p:spPr>
            <a:xfrm>
              <a:off x="1670040" y="1533600"/>
              <a:ext cx="27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rcRect l="38004" t="9318" r="32174" b="63168"/>
            <a:stretch/>
          </p:blipFill>
          <p:spPr>
            <a:xfrm>
              <a:off x="735120" y="831960"/>
              <a:ext cx="1112760" cy="15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735120" y="2682720"/>
            <a:ext cx="3475080" cy="971640"/>
            <a:chOff x="735120" y="2682720"/>
            <a:chExt cx="3475080" cy="971640"/>
          </a:xfrm>
        </p:grpSpPr>
        <p:sp>
          <p:nvSpPr>
            <p:cNvPr id="259" name=""/>
            <p:cNvSpPr/>
            <p:nvPr/>
          </p:nvSpPr>
          <p:spPr>
            <a:xfrm>
              <a:off x="1440000" y="2813040"/>
              <a:ext cx="27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5"/>
            <a:srcRect l="38212" t="28251" r="50770" b="56644"/>
            <a:stretch/>
          </p:blipFill>
          <p:spPr>
            <a:xfrm>
              <a:off x="735120" y="2682720"/>
              <a:ext cx="53172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"/>
          <p:cNvGrpSpPr/>
          <p:nvPr/>
        </p:nvGrpSpPr>
        <p:grpSpPr>
          <a:xfrm>
            <a:off x="735120" y="3870360"/>
            <a:ext cx="3405240" cy="1906560"/>
            <a:chOff x="735120" y="3870360"/>
            <a:chExt cx="3405240" cy="1906560"/>
          </a:xfrm>
        </p:grpSpPr>
        <p:sp>
          <p:nvSpPr>
            <p:cNvPr id="262" name=""/>
            <p:cNvSpPr/>
            <p:nvPr/>
          </p:nvSpPr>
          <p:spPr>
            <a:xfrm>
              <a:off x="1370160" y="4235400"/>
              <a:ext cx="27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?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6"/>
            <a:srcRect l="55051" t="41122" r="33422" b="32896"/>
            <a:stretch/>
          </p:blipFill>
          <p:spPr>
            <a:xfrm>
              <a:off x="735120" y="3870360"/>
              <a:ext cx="635040" cy="19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265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267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98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946760" y="3519360"/>
            <a:ext cx="18619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5533920" y="1201680"/>
            <a:ext cx="3079800" cy="4665600"/>
            <a:chOff x="5533920" y="1201680"/>
            <a:chExt cx="3079800" cy="466560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6781680" y="4235400"/>
              <a:ext cx="1150920" cy="15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7491240" y="4592520"/>
              <a:ext cx="79524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4"/>
            <a:stretch/>
          </p:blipFill>
          <p:spPr>
            <a:xfrm>
              <a:off x="5986440" y="3925800"/>
              <a:ext cx="145548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"/>
            <a:stretch/>
          </p:blipFill>
          <p:spPr>
            <a:xfrm>
              <a:off x="6751440" y="1201680"/>
              <a:ext cx="1862280" cy="24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"/>
            <a:stretch/>
          </p:blipFill>
          <p:spPr>
            <a:xfrm>
              <a:off x="6303960" y="1896840"/>
              <a:ext cx="137952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7"/>
            <a:stretch/>
          </p:blipFill>
          <p:spPr>
            <a:xfrm>
              <a:off x="5883120" y="2442960"/>
              <a:ext cx="1111320" cy="14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8"/>
            <a:stretch/>
          </p:blipFill>
          <p:spPr>
            <a:xfrm>
              <a:off x="5533920" y="3027240"/>
              <a:ext cx="90504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874800" y="320760"/>
            <a:ext cx="3781440" cy="1762200"/>
            <a:chOff x="874800" y="320760"/>
            <a:chExt cx="3781440" cy="1762200"/>
          </a:xfrm>
        </p:grpSpPr>
        <p:sp>
          <p:nvSpPr>
            <p:cNvPr id="281" name=""/>
            <p:cNvSpPr/>
            <p:nvPr/>
          </p:nvSpPr>
          <p:spPr>
            <a:xfrm>
              <a:off x="1886040" y="1297080"/>
              <a:ext cx="27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9"/>
            <a:srcRect l="40093" t="16572" r="44297" b="69260"/>
            <a:stretch/>
          </p:blipFill>
          <p:spPr>
            <a:xfrm>
              <a:off x="874800" y="320760"/>
              <a:ext cx="1457280" cy="176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874800" y="2227320"/>
            <a:ext cx="3550680" cy="1292040"/>
            <a:chOff x="874800" y="2227320"/>
            <a:chExt cx="3550680" cy="1292040"/>
          </a:xfrm>
        </p:grpSpPr>
        <p:sp>
          <p:nvSpPr>
            <p:cNvPr id="284" name=""/>
            <p:cNvSpPr/>
            <p:nvPr/>
          </p:nvSpPr>
          <p:spPr>
            <a:xfrm>
              <a:off x="1655640" y="2490480"/>
              <a:ext cx="276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0"/>
            <a:stretch/>
          </p:blipFill>
          <p:spPr>
            <a:xfrm>
              <a:off x="874800" y="2227320"/>
              <a:ext cx="745920" cy="12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"/>
          <p:cNvGrpSpPr/>
          <p:nvPr/>
        </p:nvGrpSpPr>
        <p:grpSpPr>
          <a:xfrm>
            <a:off x="14400" y="3132000"/>
            <a:ext cx="4641840" cy="3782880"/>
            <a:chOff x="14400" y="3132000"/>
            <a:chExt cx="4641840" cy="3782880"/>
          </a:xfrm>
        </p:grpSpPr>
        <p:pic>
          <p:nvPicPr>
            <p:cNvPr id="287" name="" descr=""/>
            <p:cNvPicPr/>
            <p:nvPr/>
          </p:nvPicPr>
          <p:blipFill>
            <a:blip r:embed="rId11"/>
            <a:stretch/>
          </p:blipFill>
          <p:spPr>
            <a:xfrm>
              <a:off x="14400" y="3132000"/>
              <a:ext cx="2836800" cy="37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886040" y="4019400"/>
              <a:ext cx="277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hat is it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828080" y="1789200"/>
            <a:ext cx="25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 han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657800" y="313200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 foot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1884600" y="466092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Times New Roman"/>
                <a:ea typeface="宋体"/>
              </a:rPr>
              <a:t>It’s a body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293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295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7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391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93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54120" y="2257560"/>
            <a:ext cx="3260520" cy="3962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828800" y="2346480"/>
            <a:ext cx="3195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on says ,“Touc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head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09800" y="8524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et’s play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762360" y="294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782960" y="2406600"/>
            <a:ext cx="3059280" cy="3813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214960" y="24066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uch your hea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934400" y="2558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081840" y="2943360"/>
            <a:ext cx="12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op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7191360" y="3046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376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indefinite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63,-18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620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indefinite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63,-18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045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indefinite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36,63,-18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68240" y="893880"/>
            <a:ext cx="36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475000" y="947880"/>
            <a:ext cx="5811840" cy="4790520"/>
            <a:chOff x="2475000" y="947880"/>
            <a:chExt cx="5811840" cy="47905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508560" y="1649160"/>
              <a:ext cx="3270240" cy="40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911760" y="4297320"/>
              <a:ext cx="614160" cy="218520"/>
            </a:xfrm>
            <a:prstGeom prst="rightArrow">
              <a:avLst>
                <a:gd name="adj1" fmla="val 50000"/>
                <a:gd name="adj2" fmla="val 702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0065600">
              <a:off x="5577840" y="2123280"/>
              <a:ext cx="546120" cy="218520"/>
            </a:xfrm>
            <a:prstGeom prst="rightArrow">
              <a:avLst>
                <a:gd name="adj1" fmla="val 50000"/>
                <a:gd name="adj2" fmla="val 6247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1010800">
              <a:off x="3555720" y="3267000"/>
              <a:ext cx="663480" cy="174240"/>
            </a:xfrm>
            <a:prstGeom prst="rightArrow">
              <a:avLst>
                <a:gd name="adj1" fmla="val 50000"/>
                <a:gd name="adj2" fmla="val 95196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75000" y="3484440"/>
              <a:ext cx="1081080" cy="136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4360" y="4416120"/>
              <a:ext cx="1081080" cy="14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24680" y="2257200"/>
              <a:ext cx="1081080" cy="14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065600">
              <a:off x="6658920" y="3407760"/>
              <a:ext cx="546120" cy="218880"/>
            </a:xfrm>
            <a:prstGeom prst="rightArrow">
              <a:avLst>
                <a:gd name="adj1" fmla="val 50000"/>
                <a:gd name="adj2" fmla="val 6237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05760" y="3509640"/>
              <a:ext cx="1081080" cy="14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0162200">
              <a:off x="5765040" y="4973400"/>
              <a:ext cx="546120" cy="218880"/>
            </a:xfrm>
            <a:prstGeom prst="rightArrow">
              <a:avLst>
                <a:gd name="adj1" fmla="val 50000"/>
                <a:gd name="adj2" fmla="val 6237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40680" y="5087880"/>
              <a:ext cx="1081080" cy="1368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4360" y="2841480"/>
              <a:ext cx="75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11880" y="1555560"/>
              <a:ext cx="75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21760" y="2706480"/>
              <a:ext cx="75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00800" y="4271760"/>
              <a:ext cx="75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0360" y="3728880"/>
              <a:ext cx="753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25920" y="947880"/>
              <a:ext cx="75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19560" y="1541160"/>
              <a:ext cx="1081080" cy="14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933480" y="1752480"/>
            <a:ext cx="1541520" cy="3764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h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 a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 le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 f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 b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057480" y="27828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6659640" y="15350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7729560" y="27399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6778800" y="42721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3363840" y="362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4940280" y="853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3f24"/>
                </a:solidFill>
                <a:latin typeface="Arial"/>
                <a:ea typeface="宋体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336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338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9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0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484" dur="3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43040" y="1045800"/>
            <a:ext cx="7542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04040"/>
                </a:solidFill>
                <a:latin typeface="Verdana"/>
              </a:rPr>
              <a:t>Homework</a:t>
            </a:r>
            <a:r>
              <a:rPr b="1" i="1" lang="zh-CN" sz="4000" spc="-1" strike="noStrike">
                <a:solidFill>
                  <a:srgbClr val="404040"/>
                </a:solidFill>
                <a:latin typeface="Verdana"/>
              </a:rPr>
              <a:t>：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404040"/>
                </a:solidFill>
                <a:latin typeface="Verdana"/>
              </a:rPr>
              <a:t>自己画一幅图片，并用英语表示出所学过的身体部位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854440" y="2701800"/>
            <a:ext cx="2290680" cy="2457720"/>
          </a:xfrm>
          <a:prstGeom prst="rect">
            <a:avLst/>
          </a:prstGeom>
          <a:ln w="0">
            <a:noFill/>
          </a:ln>
        </p:spPr>
      </p:pic>
      <p:grpSp>
        <p:nvGrpSpPr>
          <p:cNvPr id="344" name=""/>
          <p:cNvGrpSpPr/>
          <p:nvPr/>
        </p:nvGrpSpPr>
        <p:grpSpPr>
          <a:xfrm>
            <a:off x="3271680" y="3336480"/>
            <a:ext cx="4230360" cy="4645800"/>
            <a:chOff x="3271680" y="3336480"/>
            <a:chExt cx="4230360" cy="4645800"/>
          </a:xfrm>
        </p:grpSpPr>
        <p:sp>
          <p:nvSpPr>
            <p:cNvPr id="345" name="Freeform 15"/>
            <p:cNvSpPr/>
            <p:nvPr/>
          </p:nvSpPr>
          <p:spPr>
            <a:xfrm rot="20757600">
              <a:off x="3691080" y="3689640"/>
              <a:ext cx="3390840" cy="3877560"/>
            </a:xfrm>
            <a:prstGeom prst="pie">
              <a:avLst/>
            </a:prstGeom>
            <a:solidFill>
              <a:srgbClr val="e3c19f"/>
            </a:solidFill>
            <a:ln w="936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377520" y="4066560"/>
              <a:ext cx="3837600" cy="3915720"/>
              <a:chOff x="3377520" y="4066560"/>
              <a:chExt cx="3837600" cy="3915720"/>
            </a:xfrm>
          </p:grpSpPr>
          <p:sp>
            <p:nvSpPr>
              <p:cNvPr id="347" name="Freeform 17"/>
              <p:cNvSpPr/>
              <p:nvPr/>
            </p:nvSpPr>
            <p:spPr>
              <a:xfrm rot="20757600">
                <a:off x="4160520" y="4937400"/>
                <a:ext cx="2762280" cy="2750760"/>
              </a:xfrm>
              <a:prstGeom prst="pie">
                <a:avLst/>
              </a:prstGeom>
              <a:solidFill>
                <a:srgbClr val="dfb7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Freeform 18"/>
              <p:cNvSpPr/>
              <p:nvPr/>
            </p:nvSpPr>
            <p:spPr>
              <a:xfrm rot="20757600">
                <a:off x="3417480" y="4112280"/>
                <a:ext cx="425520" cy="384120"/>
              </a:xfrm>
              <a:prstGeom prst="pie">
                <a:avLst/>
              </a:prstGeom>
              <a:solidFill>
                <a:srgbClr val="e9bea9"/>
              </a:solidFill>
              <a:ln w="9360">
                <a:solidFill>
                  <a:srgbClr val="daad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9" name="Freeform 19"/>
            <p:cNvSpPr/>
            <p:nvPr/>
          </p:nvSpPr>
          <p:spPr>
            <a:xfrm rot="20757600">
              <a:off x="3713760" y="5024160"/>
              <a:ext cx="298440" cy="237240"/>
            </a:xfrm>
            <a:prstGeom prst="pie">
              <a:avLst/>
            </a:prstGeom>
            <a:noFill/>
            <a:ln w="19080">
              <a:solidFill>
                <a:srgbClr val="daad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en.12999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0926 C 0.02847 0.01134 0.06823 -0.04167 0.1724 0.02315 C 0.27639 0.08819 0.53021 0.3206 0.62431 0.39907 E">
                                      <p:cBhvr>
                                        <p:cTn id="531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533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en.12999.com</dc:creator>
  <dc:description/>
  <dc:language>en-US</dc:language>
  <cp:lastModifiedBy>微软用户</cp:lastModifiedBy>
  <dcterms:modified xsi:type="dcterms:W3CDTF">2013-10-13T13:03:41Z</dcterms:modified>
  <cp:revision>33</cp:revision>
  <dc:subject>en.12999.com</dc:subject>
  <dc:title>en.12999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